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901-1A6F-4A85-8FF6-A7054591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704-C2B3-41B5-979E-C1E5009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EC7-2A80-43CF-B57E-1C569097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4DE-D697-409C-99E0-19DF19EE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DB2-FB93-4073-9652-38D9D96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3ED-26EB-4870-9353-53635A9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F65-BDFB-4B5C-9D58-143F0771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790-58E5-46A7-B733-67B4D39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FB0-9B2C-4789-A93F-60D940DE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ECE-260E-4647-9456-D8DA4F4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4BD-1E46-4761-A09B-E9F02C4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FE8-08C9-42D5-9C5F-FEC6121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21EE-51BE-4C03-B880-C4237035F5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kfe-a-peiraia.att.sch.gr/XimLykeiou/Q_exoud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kfe-evosm.thess.sch.gr/thermidometria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Υπολογισμός ενθαλπίας αντίδρασ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ημεία Β` Λυκείου θετικής κατεύθυνση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ουρτζίκος Σωτήρης – Χημικός                                 ΕΚΦΕ ΛΑΚΩΝΙΑΣ    200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836640"/>
          <a:ext cx="8964360" cy="5112720"/>
        </p:xfrm>
        <a:graphic>
          <a:graphicData uri="http://schemas.openxmlformats.org/drawingml/2006/table">
            <a:tbl>
              <a:tblPr/>
              <a:tblGrid>
                <a:gridCol w="6132600"/>
                <a:gridCol w="2831760"/>
              </a:tblGrid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χική θερμοκρασία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χική θερμοκρασία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έση αρχική θερμοκρασ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ερμοκρασία τελικού διαλύ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ταβολή θερμοκρασ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Θ= 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λική μάζα διαλύ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              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ερμότητα που ελευθερώνεται κατά την αντίδρα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=             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es NaOH=mol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θαλπία εξουδετέρω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              kj/m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8172360" y="6237360"/>
            <a:ext cx="503280" cy="620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633">
                <a:moveTo>
                  <a:pt x="0" y="0"/>
                </a:moveTo>
                <a:lnTo>
                  <a:pt x="21600" y="0"/>
                </a:lnTo>
                <a:lnTo>
                  <a:pt x="21600" y="26633"/>
                </a:lnTo>
                <a:lnTo>
                  <a:pt x="0" y="26633"/>
                </a:lnTo>
                <a:close/>
              </a:path>
              <a:path fill="lightenLess" w="21600" h="26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33">
                <a:moveTo>
                  <a:pt x="21600" y="0"/>
                </a:moveTo>
                <a:lnTo>
                  <a:pt x="21600" y="26633"/>
                </a:lnTo>
                <a:lnTo>
                  <a:pt x="20200" y="25233"/>
                </a:lnTo>
                <a:lnTo>
                  <a:pt x="20200" y="1400"/>
                </a:lnTo>
                <a:close/>
              </a:path>
              <a:path fill="darkenLess" w="21600" h="26633">
                <a:moveTo>
                  <a:pt x="21600" y="26633"/>
                </a:moveTo>
                <a:lnTo>
                  <a:pt x="0" y="26633"/>
                </a:lnTo>
                <a:lnTo>
                  <a:pt x="1400" y="25233"/>
                </a:lnTo>
                <a:lnTo>
                  <a:pt x="20200" y="25233"/>
                </a:lnTo>
                <a:close/>
              </a:path>
              <a:path fill="lighten" w="21600" h="26633">
                <a:moveTo>
                  <a:pt x="0" y="26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33"/>
                </a:lnTo>
                <a:close/>
              </a:path>
              <a:path fill="darkenLess" w="21600" h="26633">
                <a:moveTo>
                  <a:pt x="5273" y="6502"/>
                </a:moveTo>
                <a:lnTo>
                  <a:pt x="12271" y="6502"/>
                </a:lnTo>
                <a:lnTo>
                  <a:pt x="16327" y="10001"/>
                </a:lnTo>
                <a:lnTo>
                  <a:pt x="16327" y="20132"/>
                </a:lnTo>
                <a:lnTo>
                  <a:pt x="5273" y="20132"/>
                </a:lnTo>
                <a:close/>
              </a:path>
              <a:path fill="darken" w="21600" h="26633">
                <a:moveTo>
                  <a:pt x="12271" y="6502"/>
                </a:moveTo>
                <a:lnTo>
                  <a:pt x="16327" y="10001"/>
                </a:lnTo>
                <a:lnTo>
                  <a:pt x="12271" y="100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760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αρατήρηση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  Θεωρούμε ότ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1.όλη η θερμότητα που εκλύεται κατά την αντίδραση απορροφάται από το διάλυμα που βρίσκεται στο θερμιδόμετρ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2. η μετρούμενη θερμότητα της αντίδρασης είναι ίση με τη μεταβολή (ΔΗ) της αντίδρασ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3. το διάλυμα είναι πολύ αραιό οπότε η πυκνότητά του και η ειδική θερμοχωρητικότητά του είναι οι αντίστοιχες του νερού, δηλαδή ρ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  και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=4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4. η θερμοχωρητικότητα του οργάνου είναι μηδεν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15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Στόχο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Όταν θα έχετε πραγματοποιήσει αυτή την εργαστηριακή άσκηση θα μπορείτ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μετράτε όγκους υγρών με ογκομετρικό κύλινδρ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χρησιμοποιείτε το θερμόμετρο για τη μέτρηση θερμοκρασίας υγρώ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χρησιμοποιείτε ορισμένα όργανα του χημείο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υπολογίζετε το εκλυόμενο ποσό θερμότητας κατά τη πραγματοποίηση μιας χημικής αντίδραση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υπολογίζετε τη μεταβολή της ενθαλπίας μιας χημικής αντίδραση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Να συγκρίνετε τα πειραματικά αποτελέσματα με αυτά που προβλέπει η θεωρ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1773360"/>
          <a:ext cx="9143640" cy="309492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αραίτητα αντιδραστήρ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αραίτητα όργα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άλυμα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,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γκομετρικοί κύλινδροι των 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άλυμα   ΝαΟΗ 1,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τήρια από αφρώδη πλαστικ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άλυμα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l-G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,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ερμόμετρ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7800" y="3169440"/>
            <a:ext cx="38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Εκτέλεση πειράματο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21960"/>
            <a:ext cx="9144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Υπολογισμός της ενθαλπίας εξουδετέρωσης διαλύματος                                      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 από διάλυμα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O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→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  Δ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Μέτρηση αλκοολικών βαθμών 004" descr=""/>
          <p:cNvPicPr/>
          <p:nvPr/>
        </p:nvPicPr>
        <p:blipFill>
          <a:blip r:embed="rId1"/>
          <a:stretch/>
        </p:blipFill>
        <p:spPr>
          <a:xfrm>
            <a:off x="2987640" y="2247840"/>
            <a:ext cx="6156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50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. Μέτρησε με ογκομετρικό κύλινδρο,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διαλύματο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1,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βάλε το διάλυμα σε καθαρό ποτήρι από αφρώδες πλαστικό και μέτρησε τη θερμοκρασία του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. Μέτρησε με ογκομετρικό κύλινδρο,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διαλύματος ΝαΟΗ 1,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και μετά βρες τη θερμοκρασία του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. Ρίξε το διάλυμα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στο ποτήρι που περιέχει το διάλυμ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και ανάδεψε το διάλυμα ήπι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. Μέτρησε τη μέγιστη θερμοκρασία του τελικού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. Συμπλήρωσε τον πίνακ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10440" y="4248000"/>
            <a:ext cx="19335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907920"/>
          <a:ext cx="8353080" cy="4968360"/>
        </p:xfrm>
        <a:graphic>
          <a:graphicData uri="http://schemas.openxmlformats.org/drawingml/2006/table">
            <a:tbl>
              <a:tblPr/>
              <a:tblGrid>
                <a:gridCol w="5714280"/>
                <a:gridCol w="263880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χική θερμοκρασία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χική θερμοκρασία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έση αρχική θερμοκρασ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ερμοκρασία τελικού διαλύ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ταβολή θερμοκρασ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Θ= 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Θ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λική μάζα διαλύ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              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ερμότητα που ελευθερώνεται κατά την αντίδρα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=             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es NaOH=moles 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θαλπία εξουδετέρω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              kj/m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02800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Less" w="21600" h="28665">
                <a:moveTo>
                  <a:pt x="5273" y="7518"/>
                </a:moveTo>
                <a:lnTo>
                  <a:pt x="12271" y="7518"/>
                </a:lnTo>
                <a:lnTo>
                  <a:pt x="16327" y="11016"/>
                </a:lnTo>
                <a:lnTo>
                  <a:pt x="16327" y="21148"/>
                </a:lnTo>
                <a:lnTo>
                  <a:pt x="5273" y="21148"/>
                </a:lnTo>
                <a:close/>
              </a:path>
              <a:path fill="darken" w="21600" h="28665">
                <a:moveTo>
                  <a:pt x="12271" y="7518"/>
                </a:moveTo>
                <a:lnTo>
                  <a:pt x="16327" y="11016"/>
                </a:lnTo>
                <a:lnTo>
                  <a:pt x="12271" y="11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32600"/>
            <a:ext cx="9144000" cy="23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Υπολογισμός της ενθαλπίας εξουδετέρωσης διαλύματο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1" lang="el-GR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OOH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 από διάλυμ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→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   Δ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292640"/>
            <a:ext cx="3132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-55440"/>
            <a:ext cx="9144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. Μέτρησε με ογκομετρικό κύλινδρο,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διαλύματο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1,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βάλε το διάλυμα σε καθαρό ποτήρι από αφρώδες πλαστικό και μέτρησε τη θερμοκρασία του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. Μέτρησε με ογκομετρικό κύλινδρο,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διαλύματος ΝαΟΗ 1,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και μετά βρες τη θερμοκρασία του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. Ρίξε το διάλυμα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στο ποτήρι που περιέχει το διάλυμ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και ανάδεψε το διάλυμα ήπι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. Μέτρησε τη μέγιστη θερμοκρασία του τελικού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. Συμπλήρωσε τον πίνακ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957920"/>
            <a:ext cx="3419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02:08Z</dcterms:created>
  <dc:creator>ΕΚΦΕ ΛΑΚΩΝΙΑΣ</dc:creator>
  <dc:description/>
  <dc:language>en-US</dc:language>
  <cp:lastModifiedBy>ΕΚΦΕ ΛΑΚΩΝΙΑΣ</cp:lastModifiedBy>
  <dcterms:modified xsi:type="dcterms:W3CDTF">2008-12-18T10:02:22Z</dcterms:modified>
  <cp:revision>1</cp:revision>
  <dc:subject/>
  <dc:title>Υπολογισμός ενθαλπίας αντίδρασης</dc:title>
</cp:coreProperties>
</file>